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05000" cy="474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0"/>
          </p:nvPr>
        </p:nvSpPr>
        <p:spPr>
          <a:xfrm>
            <a:off x="4059360" y="-360"/>
            <a:ext cx="3022560" cy="474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Img"/>
          </p:nvPr>
        </p:nvSpPr>
        <p:spPr>
          <a:xfrm>
            <a:off x="1012320" y="790560"/>
            <a:ext cx="5056200" cy="37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954000" y="4897440"/>
            <a:ext cx="5173920" cy="4581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11"/>
          </p:nvPr>
        </p:nvSpPr>
        <p:spPr>
          <a:xfrm>
            <a:off x="-360" y="9715680"/>
            <a:ext cx="3105000" cy="552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12"/>
          </p:nvPr>
        </p:nvSpPr>
        <p:spPr>
          <a:xfrm>
            <a:off x="4059360" y="9715680"/>
            <a:ext cx="3022560" cy="552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0B81F22-0959-4CAB-8A57-7F098A344DAB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059360" y="9715680"/>
            <a:ext cx="30225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1060E904-B99D-497D-9BF7-A5CB092E005A}" type="slidenum">
              <a:rPr b="0" lang="it-IT" sz="13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4059360" y="9715680"/>
            <a:ext cx="30225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034A79A9-F384-40A0-9260-CE3D5777C9A7}" type="slidenum">
              <a:rPr b="0" lang="it-IT" sz="13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01268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46080" y="468900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01268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54000" y="4897440"/>
            <a:ext cx="517392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egnaposto numero diapositiva 3"/>
          <p:cNvSpPr/>
          <p:nvPr/>
        </p:nvSpPr>
        <p:spPr>
          <a:xfrm>
            <a:off x="4059360" y="9715680"/>
            <a:ext cx="30225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A85D203F-569C-41EB-B8A5-F968EF7CB704}" type="slidenum">
              <a:rPr b="0" lang="it-IT" sz="13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01268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54000" y="4897440"/>
            <a:ext cx="517392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egnaposto numero diapositiva 3"/>
          <p:cNvSpPr/>
          <p:nvPr/>
        </p:nvSpPr>
        <p:spPr>
          <a:xfrm>
            <a:off x="4059360" y="9715680"/>
            <a:ext cx="30225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6FBD6E3B-878B-4789-B29C-C189C23B5D1A}" type="slidenum">
              <a:rPr b="0" lang="it-IT" sz="13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01268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54000" y="4897440"/>
            <a:ext cx="517392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egnaposto numero diapositiva 3"/>
          <p:cNvSpPr/>
          <p:nvPr/>
        </p:nvSpPr>
        <p:spPr>
          <a:xfrm>
            <a:off x="4059360" y="9715680"/>
            <a:ext cx="30225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5B3CCB8E-0C5E-460F-8417-B1EC54C77F3A}" type="slidenum">
              <a:rPr b="0" lang="it-IT" sz="13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01268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54000" y="4897440"/>
            <a:ext cx="517392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egnaposto numero diapositiva 3"/>
          <p:cNvSpPr/>
          <p:nvPr/>
        </p:nvSpPr>
        <p:spPr>
          <a:xfrm>
            <a:off x="4059360" y="9715680"/>
            <a:ext cx="30225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44FEF699-785E-4753-87B7-69017EFEA341}" type="slidenum">
              <a:rPr b="0" lang="it-IT" sz="13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01268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54000" y="4897440"/>
            <a:ext cx="517392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egnaposto numero diapositiva 3"/>
          <p:cNvSpPr/>
          <p:nvPr/>
        </p:nvSpPr>
        <p:spPr>
          <a:xfrm>
            <a:off x="4059360" y="9715680"/>
            <a:ext cx="30225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9D1888FD-4DA6-43BC-BBB9-6B9AED124EF3}" type="slidenum">
              <a:rPr b="0" lang="it-IT" sz="13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01268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54000" y="4897440"/>
            <a:ext cx="517392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egnaposto numero diapositiva 3"/>
          <p:cNvSpPr/>
          <p:nvPr/>
        </p:nvSpPr>
        <p:spPr>
          <a:xfrm>
            <a:off x="4059360" y="9715680"/>
            <a:ext cx="30225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4C69ABC3-4823-418A-AF82-8586862BE5DF}" type="slidenum">
              <a:rPr b="0" lang="it-IT" sz="13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01268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54000" y="4897440"/>
            <a:ext cx="517392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egnaposto numero diapositiva 3"/>
          <p:cNvSpPr/>
          <p:nvPr/>
        </p:nvSpPr>
        <p:spPr>
          <a:xfrm>
            <a:off x="4059360" y="9715680"/>
            <a:ext cx="30225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AB17672F-E97F-431E-84B0-D7FD17A4E129}" type="slidenum">
              <a:rPr b="0" lang="it-IT" sz="13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01268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54000" y="4897440"/>
            <a:ext cx="517392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egnaposto numero diapositiva 3"/>
          <p:cNvSpPr/>
          <p:nvPr/>
        </p:nvSpPr>
        <p:spPr>
          <a:xfrm>
            <a:off x="4059360" y="9715680"/>
            <a:ext cx="30225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9A5D8FE6-0AC2-4ED1-BA93-781461469A15}" type="slidenum">
              <a:rPr b="0" lang="it-IT" sz="13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5CF8-CCBC-4663-B59B-BF9E18C1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125E-4655-4B85-936F-37DEF92F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5689-A143-490C-83C0-411D1E29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5893-5C87-48A2-94DA-62A15364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E9A6-3A6A-4C68-BE93-B62CBD6F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8382-4F55-4F01-BA34-14AB2807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8351-AC09-442E-A3C5-EF42EC11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E91D-6B77-4BE2-AE0A-60B0667B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4A00-4F55-43CC-A0CE-C1A78273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B94F-0E52-4B47-ACDA-06D8301E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21B3-8D0F-404D-A198-E9F9D9D3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E6F9-F2C8-468C-93F5-77EB9496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6CB4-F664-4779-8718-DF1A1FBC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A330-0013-42FC-9266-302BFC86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0F7E-DCAE-4C64-9BC0-C6FCE0C9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43E9-0C1C-4140-B4EC-E759F36D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7337-F587-4524-ACB5-9A201581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720F6B-0C82-48C4-96B5-1C13FC1DF6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72C5E2-A46C-434C-BE48-5913849056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A38929-5CF7-4201-B62C-137B8A5C9D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7991C5-FF28-4B80-8E72-17F226ED3D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AB5AAE-2057-4092-8E7A-4A14DE5CEC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2073-4579-4E22-8459-34867335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590444-FB4D-4F2A-9173-8BA8D4E1CB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532CEE-AE66-48AB-8E19-BFE206508E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14EFDA-3807-4806-94F6-1F4647613C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D2C793-1B7E-42B5-98AA-87C6148E29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11FCDD-CFA0-4F30-BBD3-0DC15B59E6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61F260-2E75-448F-836D-C3274236BA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46EDCD-3D02-4AD3-B8A0-7E7E19B8DF9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90AF1-F11C-4E98-9940-540FCB36C5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A622B-01B7-4955-824E-535A0A755BF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BE10A-4560-48A9-96D2-D9D463337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671F-1968-43C5-8E28-EAFBAAAB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02B39-A223-4B2D-8BF9-2343104137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B8146-57C5-4EB6-B2FD-01244166FC4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1271D-4CDB-4C2C-B7E3-C947337DDE5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556A4-7B08-4EB9-82F1-CD907011DA5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8C00F-463E-46B6-AB2C-4932EB262D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DC02C-1EB6-4D3C-9206-A2374DB345E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F669E-C77D-4376-9590-BB4BB57BBC6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5FCAF-A131-48AF-827F-D3635A6E44D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C1684-0168-42AC-ADCC-24FDCCCFB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E1AE-4F67-4059-9D0D-4B972C0F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7233-CD8E-4F2B-9471-39664677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1130-85B9-4878-BBE8-F43D2B16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736C-2834-4C7C-A792-31D2D37E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8642-253B-4EB5-895A-75F884F1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3120" y="614376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Sezione Affari Internazional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CE60-2D97-4E6C-B32F-B12F06438CB5}" type="slidenum">
              <a:rPr b="0" lang="it-IT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488880" y="6215040"/>
            <a:ext cx="8207280" cy="0"/>
          </a:xfrm>
          <a:prstGeom prst="line">
            <a:avLst/>
          </a:prstGeom>
          <a:ln w="63360">
            <a:solidFill>
              <a:srgbClr val="000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7"/>
          <p:cNvSpPr/>
          <p:nvPr/>
        </p:nvSpPr>
        <p:spPr>
          <a:xfrm>
            <a:off x="488880" y="6215040"/>
            <a:ext cx="8207280" cy="0"/>
          </a:xfrm>
          <a:prstGeom prst="line">
            <a:avLst/>
          </a:prstGeom>
          <a:ln w="63360">
            <a:solidFill>
              <a:srgbClr val="000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765d2c"/>
                </a:gs>
                <a:gs pos="100000">
                  <a:srgbClr val="ffca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5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ffca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" name="Line 7"/>
          <p:cNvSpPr/>
          <p:nvPr/>
        </p:nvSpPr>
        <p:spPr>
          <a:xfrm>
            <a:off x="488880" y="6215040"/>
            <a:ext cx="8207280" cy="0"/>
          </a:xfrm>
          <a:prstGeom prst="line">
            <a:avLst/>
          </a:prstGeom>
          <a:ln w="63360">
            <a:solidFill>
              <a:srgbClr val="000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43120" y="614376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it-IT" sz="1100" spc="-1" strike="noStrike">
                <a:solidFill>
                  <a:srgbClr val="000073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000073"/>
                </a:solidFill>
                <a:latin typeface="Times New Roman"/>
                <a:ea typeface="Arial"/>
              </a:rPr>
              <a:t>Servizio Normativa e Politiche di Vigilanz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486E-371A-43E9-8402-95D6221511D5}" type="slidenum">
              <a:rPr b="0" lang="it-IT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7"/>
          <p:cNvSpPr/>
          <p:nvPr/>
        </p:nvSpPr>
        <p:spPr>
          <a:xfrm>
            <a:off x="488880" y="6215040"/>
            <a:ext cx="8207280" cy="0"/>
          </a:xfrm>
          <a:prstGeom prst="line">
            <a:avLst/>
          </a:prstGeom>
          <a:ln w="63360">
            <a:solidFill>
              <a:srgbClr val="000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>
            <a:off x="488880" y="6215040"/>
            <a:ext cx="8207280" cy="0"/>
          </a:xfrm>
          <a:prstGeom prst="line">
            <a:avLst/>
          </a:prstGeom>
          <a:ln w="63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488880" y="6215040"/>
            <a:ext cx="8207280" cy="0"/>
          </a:xfrm>
          <a:prstGeom prst="line">
            <a:avLst/>
          </a:prstGeom>
          <a:ln w="63360">
            <a:solidFill>
              <a:srgbClr val="000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500200" y="621504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000073"/>
                </a:solidFill>
                <a:latin typeface="Arial"/>
                <a:ea typeface="Arial"/>
              </a:rPr>
              <a:t>Servizio Normativa e Politiche di Vigilanza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2047-E532-4929-880E-D5FAA5B5746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7"/>
          <p:cNvSpPr/>
          <p:nvPr/>
        </p:nvSpPr>
        <p:spPr>
          <a:xfrm>
            <a:off x="488880" y="6215040"/>
            <a:ext cx="8207280" cy="0"/>
          </a:xfrm>
          <a:prstGeom prst="line">
            <a:avLst/>
          </a:prstGeom>
          <a:ln w="63360">
            <a:solidFill>
              <a:srgbClr val="000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488880" y="6215040"/>
            <a:ext cx="8207280" cy="0"/>
          </a:xfrm>
          <a:prstGeom prst="line">
            <a:avLst/>
          </a:prstGeom>
          <a:ln w="63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2571840" y="621504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000073"/>
                </a:solidFill>
                <a:latin typeface="Arial"/>
                <a:ea typeface="Arial"/>
              </a:rPr>
              <a:t>Servizio Normativa e Politiche di Vigilanza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488880" y="6215040"/>
            <a:ext cx="8207280" cy="0"/>
          </a:xfrm>
          <a:prstGeom prst="line">
            <a:avLst/>
          </a:prstGeom>
          <a:ln w="63360">
            <a:solidFill>
              <a:srgbClr val="000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8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marL="216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EC50-1EC9-498D-AF89-257243B15452}" type="slidenum">
              <a:rPr b="0" lang="it-IT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28760" y="3365280"/>
            <a:ext cx="8215200" cy="121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Arial"/>
              </a:rPr>
              <a:t>Le segnalazioni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Arial"/>
              </a:rPr>
              <a:t>per la </a:t>
            </a:r>
            <a:r>
              <a:rPr b="0" i="1" lang="it-IT" sz="2800" spc="-1" strike="noStrike">
                <a:solidFill>
                  <a:srgbClr val="000066"/>
                </a:solidFill>
                <a:latin typeface="Arial"/>
              </a:rPr>
              <a:t>financial stabilit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785880" y="1571760"/>
            <a:ext cx="741672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c00000"/>
                </a:solidFill>
                <a:latin typeface="Arial"/>
              </a:rPr>
              <a:t>Workshop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c00000"/>
                </a:solidFill>
                <a:latin typeface="Arial"/>
              </a:rPr>
              <a:t>Segnalazioni 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c00000"/>
                </a:solidFill>
                <a:latin typeface="Arial"/>
              </a:rPr>
              <a:t>Integrate Solvency II/BCE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979640" y="5146560"/>
            <a:ext cx="507204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Roma, 12 aprile 2016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Stefano Pasqualini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428760" y="428760"/>
            <a:ext cx="8215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Connettore 1 10"/>
          <p:cNvSpPr/>
          <p:nvPr/>
        </p:nvSpPr>
        <p:spPr>
          <a:xfrm>
            <a:off x="395280" y="404640"/>
            <a:ext cx="8209080" cy="0"/>
          </a:xfrm>
          <a:prstGeom prst="line">
            <a:avLst/>
          </a:prstGeom>
          <a:ln w="25560">
            <a:solidFill>
              <a:srgbClr val="000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Connettore 1 11"/>
          <p:cNvSpPr/>
          <p:nvPr/>
        </p:nvSpPr>
        <p:spPr>
          <a:xfrm>
            <a:off x="395280" y="1125360"/>
            <a:ext cx="8209080" cy="0"/>
          </a:xfrm>
          <a:prstGeom prst="line">
            <a:avLst/>
          </a:prstGeom>
          <a:ln w="25560">
            <a:solidFill>
              <a:srgbClr val="000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88" name="Immagine 12" descr="logo_home.png"/>
          <p:cNvPicPr/>
          <p:nvPr/>
        </p:nvPicPr>
        <p:blipFill>
          <a:blip r:embed="rId1"/>
          <a:stretch/>
        </p:blipFill>
        <p:spPr>
          <a:xfrm>
            <a:off x="395280" y="465120"/>
            <a:ext cx="2525760" cy="5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5AD9-B0A8-47E4-9D1A-27E24C616AC6}" type="slidenum">
              <a:rPr b="0" lang="it-IT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428760" y="428760"/>
            <a:ext cx="8215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66"/>
                </a:solidFill>
                <a:latin typeface="Arial"/>
                <a:ea typeface="Arial"/>
              </a:rPr>
              <a:t>Indi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Connettore 1 5"/>
          <p:cNvSpPr/>
          <p:nvPr/>
        </p:nvSpPr>
        <p:spPr>
          <a:xfrm>
            <a:off x="395280" y="404640"/>
            <a:ext cx="8209080" cy="0"/>
          </a:xfrm>
          <a:prstGeom prst="line">
            <a:avLst/>
          </a:prstGeom>
          <a:ln w="25560">
            <a:solidFill>
              <a:srgbClr val="000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Connettore 1 7"/>
          <p:cNvSpPr/>
          <p:nvPr/>
        </p:nvSpPr>
        <p:spPr>
          <a:xfrm>
            <a:off x="395280" y="1125360"/>
            <a:ext cx="8209080" cy="0"/>
          </a:xfrm>
          <a:prstGeom prst="line">
            <a:avLst/>
          </a:prstGeom>
          <a:ln w="25560">
            <a:solidFill>
              <a:srgbClr val="000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3" name="Immagine 8" descr="logo_home.png"/>
          <p:cNvPicPr/>
          <p:nvPr/>
        </p:nvPicPr>
        <p:blipFill>
          <a:blip r:embed="rId1"/>
          <a:stretch/>
        </p:blipFill>
        <p:spPr>
          <a:xfrm>
            <a:off x="395280" y="465120"/>
            <a:ext cx="2525760" cy="587520"/>
          </a:xfrm>
          <a:prstGeom prst="rect">
            <a:avLst/>
          </a:prstGeom>
          <a:ln w="0">
            <a:noFill/>
          </a:ln>
        </p:spPr>
      </p:pic>
      <p:sp>
        <p:nvSpPr>
          <p:cNvPr id="194" name="Rettangolo 1"/>
          <p:cNvSpPr/>
          <p:nvPr/>
        </p:nvSpPr>
        <p:spPr>
          <a:xfrm>
            <a:off x="428760" y="1700280"/>
            <a:ext cx="82486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6600" indent="-343080" algn="just">
              <a:lnSpc>
                <a:spcPct val="200000"/>
              </a:lnSpc>
              <a:spcBef>
                <a:spcPts val="451"/>
              </a:spcBef>
              <a:buClr>
                <a:srgbClr val="c00000"/>
              </a:buClr>
              <a:buSzPct val="75000"/>
              <a:buFont typeface="Arial"/>
              <a:buAutoNum type="arabicPeriod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QUADR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NORMATIVO DI RIFERIMENT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06600" indent="-343080" algn="just">
              <a:lnSpc>
                <a:spcPct val="200000"/>
              </a:lnSpc>
              <a:spcBef>
                <a:spcPts val="451"/>
              </a:spcBef>
              <a:buClr>
                <a:srgbClr val="c00000"/>
              </a:buClr>
              <a:buSzPct val="75000"/>
              <a:buFont typeface="Arial"/>
              <a:buAutoNum type="arabicPeriod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AMBITO DI APPLICAZION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06600" indent="-343080" algn="just">
              <a:lnSpc>
                <a:spcPct val="200000"/>
              </a:lnSpc>
              <a:spcBef>
                <a:spcPts val="451"/>
              </a:spcBef>
              <a:buClr>
                <a:srgbClr val="c00000"/>
              </a:buClr>
              <a:buSzPct val="75000"/>
              <a:buFont typeface="Arial"/>
              <a:buAutoNum type="arabicPeriod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OBBLIGHI DI INFORMATIVA PER IL 201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06600" indent="-343080" algn="just">
              <a:lnSpc>
                <a:spcPct val="200000"/>
              </a:lnSpc>
              <a:spcBef>
                <a:spcPts val="451"/>
              </a:spcBef>
              <a:buClr>
                <a:srgbClr val="c00000"/>
              </a:buClr>
              <a:buSzPct val="75000"/>
              <a:buFont typeface="Arial"/>
              <a:buAutoNum type="arabicPeriod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INFORMAZIONI QUANTITATIVE PERIODICH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06600" indent="-343080" algn="just">
              <a:lnSpc>
                <a:spcPct val="200000"/>
              </a:lnSpc>
              <a:spcBef>
                <a:spcPts val="451"/>
              </a:spcBef>
              <a:buClr>
                <a:srgbClr val="c00000"/>
              </a:buClr>
              <a:buSzPct val="75000"/>
              <a:buFont typeface="Arial"/>
              <a:buAutoNum type="arabicPeriod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TERMINI PER LA TRASMISSIONE DEI DAT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06600" indent="-343080" algn="just">
              <a:lnSpc>
                <a:spcPct val="200000"/>
              </a:lnSpc>
              <a:spcBef>
                <a:spcPts val="451"/>
              </a:spcBef>
              <a:buClr>
                <a:srgbClr val="c00000"/>
              </a:buClr>
              <a:buSzPct val="75000"/>
              <a:buFont typeface="Arial"/>
              <a:buAutoNum type="arabicPeriod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UTILIZZO DEI DATI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2DA9-8735-45C8-AF29-9C03B2845E13}" type="slidenum">
              <a:rPr b="0" lang="it-IT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428760" y="428760"/>
            <a:ext cx="8215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1. Quadro normativo di riferimento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Connettore 1 5"/>
          <p:cNvSpPr/>
          <p:nvPr/>
        </p:nvSpPr>
        <p:spPr>
          <a:xfrm>
            <a:off x="395280" y="404640"/>
            <a:ext cx="8209080" cy="0"/>
          </a:xfrm>
          <a:prstGeom prst="line">
            <a:avLst/>
          </a:prstGeom>
          <a:ln w="25560">
            <a:solidFill>
              <a:srgbClr val="000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Connettore 1 7"/>
          <p:cNvSpPr/>
          <p:nvPr/>
        </p:nvSpPr>
        <p:spPr>
          <a:xfrm>
            <a:off x="395280" y="1125360"/>
            <a:ext cx="8209080" cy="0"/>
          </a:xfrm>
          <a:prstGeom prst="line">
            <a:avLst/>
          </a:prstGeom>
          <a:ln w="25560">
            <a:solidFill>
              <a:srgbClr val="000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9" name="Immagine 8" descr="logo_home.png"/>
          <p:cNvPicPr/>
          <p:nvPr/>
        </p:nvPicPr>
        <p:blipFill>
          <a:blip r:embed="rId1"/>
          <a:stretch/>
        </p:blipFill>
        <p:spPr>
          <a:xfrm>
            <a:off x="395280" y="465120"/>
            <a:ext cx="2525760" cy="5875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8"/>
          <p:cNvSpPr/>
          <p:nvPr/>
        </p:nvSpPr>
        <p:spPr>
          <a:xfrm>
            <a:off x="395280" y="1268280"/>
            <a:ext cx="8209080" cy="43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c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Direttiva </a:t>
            </a:r>
            <a:r>
              <a:rPr b="1" i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Solvency II 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(Direttiva 2009/138/CE del 25 novembre 2009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 algn="just">
              <a:lnSpc>
                <a:spcPct val="150000"/>
              </a:lnSpc>
              <a:spcBef>
                <a:spcPts val="451"/>
              </a:spcBef>
              <a:buClr>
                <a:srgbClr val="c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recepita nel 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Codice delle assicurazioni private 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(d. lgs. 209/2005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ts val="1800"/>
              </a:lnSpc>
              <a:spcBef>
                <a:spcPts val="451"/>
              </a:spcBef>
              <a:buClr>
                <a:srgbClr val="c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c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Atti Delegati 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(Regolamento delegato (UE) 2015/35 della Commissione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ts val="1800"/>
              </a:lnSpc>
              <a:spcBef>
                <a:spcPts val="451"/>
              </a:spcBef>
              <a:buClr>
                <a:srgbClr val="c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c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ITS 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della Commissione europea (Regolamento di esecuzione (UE)  2015/2450 - norme tecniche di attuazione per quanto riguarda i modelli per la presentazione delle informazioni alle autorità di vigilanza conformemente alla direttiva Solvency II)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c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ts val="1800"/>
              </a:lnSpc>
              <a:spcBef>
                <a:spcPts val="451"/>
              </a:spcBef>
              <a:buClr>
                <a:srgbClr val="c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Le Linee Guida EIOPA 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(BoS-15/107) sull’informativa ai fini della stabilità finanziaria e i relativi allegati tecnici A, B e C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ts val="1800"/>
              </a:lnSpc>
              <a:spcBef>
                <a:spcPts val="451"/>
              </a:spcBef>
              <a:buClr>
                <a:srgbClr val="c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 algn="just">
              <a:lnSpc>
                <a:spcPts val="1800"/>
              </a:lnSpc>
              <a:spcBef>
                <a:spcPts val="451"/>
              </a:spcBef>
              <a:buClr>
                <a:srgbClr val="c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in corso di recepimento con Regolamento IVASS (Cfr. Documento di consultazione n. 4/2016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CE24-028F-4C16-8B8B-E34137B2E066}" type="slidenum">
              <a:rPr b="0" lang="it-IT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428760" y="428760"/>
            <a:ext cx="8215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2. </a:t>
            </a:r>
            <a:r>
              <a:rPr b="1" i="1" lang="it-IT" sz="2000" spc="-1" strike="noStrike">
                <a:solidFill>
                  <a:srgbClr val="000066"/>
                </a:solidFill>
                <a:latin typeface="Arial"/>
              </a:rPr>
              <a:t>Ambito di applicazion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Connettore 1 5"/>
          <p:cNvSpPr/>
          <p:nvPr/>
        </p:nvSpPr>
        <p:spPr>
          <a:xfrm>
            <a:off x="395280" y="404640"/>
            <a:ext cx="8209080" cy="0"/>
          </a:xfrm>
          <a:prstGeom prst="line">
            <a:avLst/>
          </a:prstGeom>
          <a:ln w="25560">
            <a:solidFill>
              <a:srgbClr val="000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Connettore 1 7"/>
          <p:cNvSpPr/>
          <p:nvPr/>
        </p:nvSpPr>
        <p:spPr>
          <a:xfrm>
            <a:off x="395280" y="1125360"/>
            <a:ext cx="8209080" cy="0"/>
          </a:xfrm>
          <a:prstGeom prst="line">
            <a:avLst/>
          </a:prstGeom>
          <a:ln w="25560">
            <a:solidFill>
              <a:srgbClr val="000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5" name="Immagine 8" descr="logo_home.png"/>
          <p:cNvPicPr/>
          <p:nvPr/>
        </p:nvPicPr>
        <p:blipFill>
          <a:blip r:embed="rId1"/>
          <a:stretch/>
        </p:blipFill>
        <p:spPr>
          <a:xfrm>
            <a:off x="395280" y="465120"/>
            <a:ext cx="2525760" cy="587520"/>
          </a:xfrm>
          <a:prstGeom prst="rect">
            <a:avLst/>
          </a:prstGeom>
          <a:ln w="0">
            <a:noFill/>
          </a:ln>
        </p:spPr>
      </p:pic>
      <p:sp>
        <p:nvSpPr>
          <p:cNvPr id="206" name="Rettangolo 1"/>
          <p:cNvSpPr/>
          <p:nvPr/>
        </p:nvSpPr>
        <p:spPr>
          <a:xfrm>
            <a:off x="376200" y="1700280"/>
            <a:ext cx="8228160" cy="29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Entità soggette al </a:t>
            </a:r>
            <a:r>
              <a:rPr b="1" i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Reporting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 sull’informativa ai fini della stabilità finanziaria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a) imprese di assicurazione e riassicurazione 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con sede legale nel territorio della Repubblica italiana (</a:t>
            </a:r>
            <a:r>
              <a:rPr b="0" i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reporting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 a livello individuale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b) sedi secondarie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 di imprese aventi sede legale in uno Stato terzo (</a:t>
            </a:r>
            <a:r>
              <a:rPr b="0" i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reporting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 a livello individuale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c) ultime società controllanti italiane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 (</a:t>
            </a:r>
            <a:r>
              <a:rPr b="0" i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reporting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 a livello di Gruppo</a:t>
            </a: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C823-DAC7-47AF-8088-06DA68B3E58C}" type="slidenum">
              <a:rPr b="0" lang="it-IT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428760" y="428760"/>
            <a:ext cx="8215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Connettore 1 5"/>
          <p:cNvSpPr/>
          <p:nvPr/>
        </p:nvSpPr>
        <p:spPr>
          <a:xfrm>
            <a:off x="395280" y="404640"/>
            <a:ext cx="8209080" cy="0"/>
          </a:xfrm>
          <a:prstGeom prst="line">
            <a:avLst/>
          </a:prstGeom>
          <a:ln w="25560">
            <a:solidFill>
              <a:srgbClr val="000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Connettore 1 7"/>
          <p:cNvSpPr/>
          <p:nvPr/>
        </p:nvSpPr>
        <p:spPr>
          <a:xfrm>
            <a:off x="395280" y="1125360"/>
            <a:ext cx="8209080" cy="0"/>
          </a:xfrm>
          <a:prstGeom prst="line">
            <a:avLst/>
          </a:prstGeom>
          <a:ln w="25560">
            <a:solidFill>
              <a:srgbClr val="000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11" name="Immagine 8" descr="logo_home.png"/>
          <p:cNvPicPr/>
          <p:nvPr/>
        </p:nvPicPr>
        <p:blipFill>
          <a:blip r:embed="rId1"/>
          <a:stretch/>
        </p:blipFill>
        <p:spPr>
          <a:xfrm>
            <a:off x="395280" y="465120"/>
            <a:ext cx="2525760" cy="587520"/>
          </a:xfrm>
          <a:prstGeom prst="rect">
            <a:avLst/>
          </a:prstGeom>
          <a:ln w="0">
            <a:noFill/>
          </a:ln>
        </p:spPr>
      </p:pic>
      <p:sp>
        <p:nvSpPr>
          <p:cNvPr id="212" name="Rettangolo 1"/>
          <p:cNvSpPr/>
          <p:nvPr/>
        </p:nvSpPr>
        <p:spPr>
          <a:xfrm>
            <a:off x="324000" y="1197000"/>
            <a:ext cx="8280360" cy="42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Criteri generali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 per l’identificazione delle Entità segnalanti 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4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Gruppi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:  ultime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società controllanti italiane il cui totale delle attività da bilancio consolidato di solvibilità sia &gt; di 12 miliardi di euro (soglia dimensionale)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4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4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Imprese: 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imprese di assicurazione e riassicurazione e sedi secondarie il cui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totale delle attività da bilancio di solvibilità sia &gt; di 12 miliardi di euro e </a:t>
            </a:r>
            <a:r>
              <a:rPr b="0" lang="it-IT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che non facciano parte di un gruppo già soggetto all’informativa di cui al punto precedente)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4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4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Altre entità (Gruppi/Imprese) 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individuate e tempestivamente informate tramite comunicazione dall’IVASS, rilevanti a fini di stabilità finanziaria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Sono previsti criteri di esclusione e di inclusione delle entità soggette al </a:t>
            </a:r>
            <a:r>
              <a:rPr b="0" i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reporting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ttangolo 2"/>
          <p:cNvSpPr/>
          <p:nvPr/>
        </p:nvSpPr>
        <p:spPr>
          <a:xfrm>
            <a:off x="3348000" y="465120"/>
            <a:ext cx="52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2. E</a:t>
            </a:r>
            <a:r>
              <a:rPr b="1" i="1" lang="it-IT" sz="2000" spc="-1" strike="noStrike">
                <a:solidFill>
                  <a:srgbClr val="000066"/>
                </a:solidFill>
                <a:latin typeface="Arial"/>
              </a:rPr>
              <a:t>ntità soggette agli obblighi di informativ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91D0-407E-4182-8F9D-974A8127CA19}" type="slidenum">
              <a:rPr b="0" lang="it-IT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428760" y="428760"/>
            <a:ext cx="8215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Connettore 1 5"/>
          <p:cNvSpPr/>
          <p:nvPr/>
        </p:nvSpPr>
        <p:spPr>
          <a:xfrm>
            <a:off x="395280" y="404640"/>
            <a:ext cx="8209080" cy="0"/>
          </a:xfrm>
          <a:prstGeom prst="line">
            <a:avLst/>
          </a:prstGeom>
          <a:ln w="25560">
            <a:solidFill>
              <a:srgbClr val="000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Connettore 1 7"/>
          <p:cNvSpPr/>
          <p:nvPr/>
        </p:nvSpPr>
        <p:spPr>
          <a:xfrm>
            <a:off x="395280" y="1125360"/>
            <a:ext cx="8209080" cy="0"/>
          </a:xfrm>
          <a:prstGeom prst="line">
            <a:avLst/>
          </a:prstGeom>
          <a:ln w="25560">
            <a:solidFill>
              <a:srgbClr val="000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18" name="Immagine 8" descr="logo_home.png"/>
          <p:cNvPicPr/>
          <p:nvPr/>
        </p:nvPicPr>
        <p:blipFill>
          <a:blip r:embed="rId1"/>
          <a:stretch/>
        </p:blipFill>
        <p:spPr>
          <a:xfrm>
            <a:off x="395280" y="465120"/>
            <a:ext cx="2525760" cy="587520"/>
          </a:xfrm>
          <a:prstGeom prst="rect">
            <a:avLst/>
          </a:prstGeom>
          <a:ln w="0">
            <a:noFill/>
          </a:ln>
        </p:spPr>
      </p:pic>
      <p:sp>
        <p:nvSpPr>
          <p:cNvPr id="219" name="Rettangolo 3"/>
          <p:cNvSpPr/>
          <p:nvPr/>
        </p:nvSpPr>
        <p:spPr>
          <a:xfrm>
            <a:off x="395280" y="1341360"/>
            <a:ext cx="817560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Prima applicazione: </a:t>
            </a:r>
            <a:r>
              <a:rPr b="1" lang="it-IT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primo trimestre 201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Soggetti tenuti alla segnalazione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:  sono stati individuati sulla base dei dati del bilancio d’esercizio e del bilancio consolidato 2014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L’IVASS ha individuato come soggetti segnalanti 7 gruppi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: Generali, Unipol, Poste Vita, Intesa SanPaolo Vita, Mediolanum, Cattolica e Reale Mutua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Arial"/>
              </a:rPr>
              <a:t>       </a:t>
            </a:r>
            <a:r>
              <a:rPr b="0" i="1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=&gt; </a:t>
            </a:r>
            <a:r>
              <a:rPr b="0" i="1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Notifica avvenuta tramite il Documento di pubblica consultazione n. 4/2016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Le segnalazioni saranno effettuate dall’ultima società controllante italian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Rettangolo 8"/>
          <p:cNvSpPr/>
          <p:nvPr/>
        </p:nvSpPr>
        <p:spPr>
          <a:xfrm>
            <a:off x="4040280" y="565200"/>
            <a:ext cx="45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3. O</a:t>
            </a:r>
            <a:r>
              <a:rPr b="1" i="1" lang="it-IT" sz="2000" spc="-1" strike="noStrike">
                <a:solidFill>
                  <a:srgbClr val="000066"/>
                </a:solidFill>
                <a:latin typeface="Arial"/>
              </a:rPr>
              <a:t>bblighi di informativa per il 2016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152A-432A-48DF-B3B5-4EB7F3C176FC}" type="slidenum">
              <a:rPr b="0" lang="it-IT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428760" y="428760"/>
            <a:ext cx="8215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Connettore 1 5"/>
          <p:cNvSpPr/>
          <p:nvPr/>
        </p:nvSpPr>
        <p:spPr>
          <a:xfrm>
            <a:off x="395280" y="404640"/>
            <a:ext cx="8209080" cy="0"/>
          </a:xfrm>
          <a:prstGeom prst="line">
            <a:avLst/>
          </a:prstGeom>
          <a:ln w="25560">
            <a:solidFill>
              <a:srgbClr val="000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Connettore 1 7"/>
          <p:cNvSpPr/>
          <p:nvPr/>
        </p:nvSpPr>
        <p:spPr>
          <a:xfrm>
            <a:off x="395280" y="1125360"/>
            <a:ext cx="8209080" cy="0"/>
          </a:xfrm>
          <a:prstGeom prst="line">
            <a:avLst/>
          </a:prstGeom>
          <a:ln w="25560">
            <a:solidFill>
              <a:srgbClr val="000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25" name="Immagine 8" descr="logo_home.png"/>
          <p:cNvPicPr/>
          <p:nvPr/>
        </p:nvPicPr>
        <p:blipFill>
          <a:blip r:embed="rId1"/>
          <a:stretch/>
        </p:blipFill>
        <p:spPr>
          <a:xfrm>
            <a:off x="395280" y="465120"/>
            <a:ext cx="2525760" cy="587520"/>
          </a:xfrm>
          <a:prstGeom prst="rect">
            <a:avLst/>
          </a:prstGeom>
          <a:ln w="0">
            <a:noFill/>
          </a:ln>
        </p:spPr>
      </p:pic>
      <p:sp>
        <p:nvSpPr>
          <p:cNvPr id="226" name="Rettangolo 1"/>
          <p:cNvSpPr/>
          <p:nvPr/>
        </p:nvSpPr>
        <p:spPr>
          <a:xfrm>
            <a:off x="4081320" y="479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4. </a:t>
            </a:r>
            <a:r>
              <a:rPr b="1" i="1" lang="it-IT" sz="2000" spc="-1" strike="noStrike">
                <a:solidFill>
                  <a:srgbClr val="000066"/>
                </a:solidFill>
                <a:latin typeface="Arial"/>
              </a:rPr>
              <a:t>Informazioni quantitative periodich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Rettangolo 1"/>
          <p:cNvSpPr/>
          <p:nvPr/>
        </p:nvSpPr>
        <p:spPr>
          <a:xfrm>
            <a:off x="403200" y="1341360"/>
            <a:ext cx="8207280" cy="58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Informazioni quantitative periodiche di vigilanza  utilizzate da IVASS per finalità di stabilità finanziaria e di analisi macroprudenzia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7959960" cy="37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BEFF-D106-47E3-BBF6-5B9FA903D833}" type="slidenum">
              <a:rPr b="0" lang="it-IT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428760" y="428760"/>
            <a:ext cx="8215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Connettore 1 5"/>
          <p:cNvSpPr/>
          <p:nvPr/>
        </p:nvSpPr>
        <p:spPr>
          <a:xfrm>
            <a:off x="395280" y="404640"/>
            <a:ext cx="8209080" cy="0"/>
          </a:xfrm>
          <a:prstGeom prst="line">
            <a:avLst/>
          </a:prstGeom>
          <a:ln w="25560">
            <a:solidFill>
              <a:srgbClr val="000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Connettore 1 7"/>
          <p:cNvSpPr/>
          <p:nvPr/>
        </p:nvSpPr>
        <p:spPr>
          <a:xfrm>
            <a:off x="395280" y="1125360"/>
            <a:ext cx="8209080" cy="0"/>
          </a:xfrm>
          <a:prstGeom prst="line">
            <a:avLst/>
          </a:prstGeom>
          <a:ln w="25560">
            <a:solidFill>
              <a:srgbClr val="000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33" name="Immagine 8" descr="logo_home.png"/>
          <p:cNvPicPr/>
          <p:nvPr/>
        </p:nvPicPr>
        <p:blipFill>
          <a:blip r:embed="rId1"/>
          <a:stretch/>
        </p:blipFill>
        <p:spPr>
          <a:xfrm>
            <a:off x="395280" y="465120"/>
            <a:ext cx="2525760" cy="587520"/>
          </a:xfrm>
          <a:prstGeom prst="rect">
            <a:avLst/>
          </a:prstGeom>
          <a:ln w="0">
            <a:noFill/>
          </a:ln>
        </p:spPr>
      </p:pic>
      <p:sp>
        <p:nvSpPr>
          <p:cNvPr id="234" name="Rettangolo 1"/>
          <p:cNvSpPr/>
          <p:nvPr/>
        </p:nvSpPr>
        <p:spPr>
          <a:xfrm>
            <a:off x="3635280" y="465120"/>
            <a:ext cx="496908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7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5. </a:t>
            </a:r>
            <a:r>
              <a:rPr b="1" i="1" lang="it-IT" sz="2000" spc="-1" strike="noStrike">
                <a:solidFill>
                  <a:srgbClr val="000066"/>
                </a:solidFill>
                <a:latin typeface="Arial"/>
              </a:rPr>
              <a:t>Termini per la trasmissione 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6036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7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66"/>
                </a:solidFill>
                <a:latin typeface="Arial"/>
              </a:rPr>
              <a:t>dei dati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258920" y="1268280"/>
          <a:ext cx="6605640" cy="3346560"/>
        </p:xfrm>
        <a:graphic>
          <a:graphicData uri="http://schemas.openxmlformats.org/drawingml/2006/table">
            <a:tbl>
              <a:tblPr/>
              <a:tblGrid>
                <a:gridCol w="1547640"/>
                <a:gridCol w="1341720"/>
                <a:gridCol w="1342800"/>
                <a:gridCol w="2373480"/>
              </a:tblGrid>
              <a:tr h="56196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ermini per la trasmissione</a:t>
                      </a:r>
                      <a:br>
                        <a:rPr sz="1400"/>
                      </a:br>
                      <a:endParaRPr b="0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b8b8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 rowSpan="1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ERIODO TRANSITORIO  2016 - 2018</a:t>
                      </a:r>
                      <a:br>
                        <a:rPr sz="1100"/>
                      </a:b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1/03/2016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9/06/2016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ntro 10 SETTIMANE</a:t>
                      </a:r>
                      <a:br>
                        <a:rPr sz="1100"/>
                      </a:br>
                      <a:r>
                        <a:rPr b="1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dalla data di riferimento 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3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0/06/2016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8/09/2016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0/09/2016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9/12/2016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1/12/2016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/03/2017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1/03/2017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2/06/2017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ntro 9 SETTIMANE</a:t>
                      </a:r>
                      <a:br>
                        <a:rPr sz="1100"/>
                      </a:br>
                      <a:r>
                        <a:rPr b="1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dalla data di riferimento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0/06/2017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1/09/2017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0/09/2017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2/12/2017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1/12/2017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4/03/2018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1/03/2018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6/05/2018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ntro 8 SETTIMANE</a:t>
                      </a:r>
                      <a:br>
                        <a:rPr sz="1100"/>
                      </a:br>
                      <a:r>
                        <a:rPr b="1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dalla data di riferimento 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0/06/2018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5/08/2018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0/09/2018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5/11/2018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1/12/2018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5/02/2019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6" name="CasellaDiTesto 3"/>
          <p:cNvSpPr/>
          <p:nvPr/>
        </p:nvSpPr>
        <p:spPr>
          <a:xfrm>
            <a:off x="488880" y="4716360"/>
            <a:ext cx="8155080" cy="580680"/>
          </a:xfrm>
          <a:prstGeom prst="rect">
            <a:avLst/>
          </a:prstGeom>
          <a:solidFill>
            <a:srgbClr val="b8b8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A regime, dal 2019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</a:rPr>
              <a:t>: le entità devono presentare le informazioni quantitative periodiche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entro 7 settimane 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</a:rPr>
              <a:t>dalla fine del periodo di riferiment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Rettangolo 2"/>
          <p:cNvSpPr/>
          <p:nvPr/>
        </p:nvSpPr>
        <p:spPr>
          <a:xfrm>
            <a:off x="488880" y="5445000"/>
            <a:ext cx="81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66"/>
                </a:solidFill>
                <a:latin typeface="Arial"/>
              </a:rPr>
              <a:t>L’IVASS trasmetterà le informazioni all’EIOPA</a:t>
            </a:r>
            <a:r>
              <a:rPr b="0" i="1" lang="it-IT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it-IT" sz="1800" spc="-1" strike="noStrike" u="sng">
                <a:solidFill>
                  <a:srgbClr val="ff0000"/>
                </a:solidFill>
                <a:uFillTx/>
                <a:latin typeface="Arial"/>
              </a:rPr>
              <a:t>entro due giorni</a:t>
            </a: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000066"/>
                </a:solidFill>
                <a:latin typeface="Arial"/>
              </a:rPr>
              <a:t>successivi alle scadenze previste per le entità segnalant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2315-16CD-4FA7-A4A5-FB1004BEAD3F}" type="slidenum">
              <a:rPr b="0" lang="it-IT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428760" y="428760"/>
            <a:ext cx="8215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6. </a:t>
            </a:r>
            <a:r>
              <a:rPr b="1" i="1" lang="it-IT" sz="2000" spc="-1" strike="noStrike">
                <a:solidFill>
                  <a:srgbClr val="000066"/>
                </a:solidFill>
                <a:latin typeface="Arial"/>
                <a:ea typeface="Arial"/>
              </a:rPr>
              <a:t>Utilizzo dei dati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Connettore 1 5"/>
          <p:cNvSpPr/>
          <p:nvPr/>
        </p:nvSpPr>
        <p:spPr>
          <a:xfrm>
            <a:off x="395280" y="404640"/>
            <a:ext cx="8209080" cy="0"/>
          </a:xfrm>
          <a:prstGeom prst="line">
            <a:avLst/>
          </a:prstGeom>
          <a:ln w="25560">
            <a:solidFill>
              <a:srgbClr val="000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Connettore 1 7"/>
          <p:cNvSpPr/>
          <p:nvPr/>
        </p:nvSpPr>
        <p:spPr>
          <a:xfrm>
            <a:off x="395280" y="1125360"/>
            <a:ext cx="8209080" cy="0"/>
          </a:xfrm>
          <a:prstGeom prst="line">
            <a:avLst/>
          </a:prstGeom>
          <a:ln w="25560">
            <a:solidFill>
              <a:srgbClr val="000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2" name="Immagine 8" descr="logo_home.png"/>
          <p:cNvPicPr/>
          <p:nvPr/>
        </p:nvPicPr>
        <p:blipFill>
          <a:blip r:embed="rId1"/>
          <a:stretch/>
        </p:blipFill>
        <p:spPr>
          <a:xfrm>
            <a:off x="395280" y="465120"/>
            <a:ext cx="2525760" cy="587520"/>
          </a:xfrm>
          <a:prstGeom prst="rect">
            <a:avLst/>
          </a:prstGeom>
          <a:ln w="0">
            <a:noFill/>
          </a:ln>
        </p:spPr>
      </p:pic>
      <p:sp>
        <p:nvSpPr>
          <p:cNvPr id="243" name="Rettangolo 1"/>
          <p:cNvSpPr/>
          <p:nvPr/>
        </p:nvSpPr>
        <p:spPr>
          <a:xfrm>
            <a:off x="395280" y="1341360"/>
            <a:ext cx="820908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Utilizzo dei dati per finalità di stabilità finanziaria 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IVASS/EIOP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66"/>
                </a:solidFill>
                <a:latin typeface="Arial"/>
              </a:rPr>
              <a:t>Risk dashboard -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 strumento che raccoglie un insieme di analisi per fornire un quadro, con cadenza trimestrale </a:t>
            </a: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dell’evoluzione dei rischi 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e delle vulnerabilità dell’industria assicurativ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Rischi considerati: macroeconomico, mercato, credito, liquidità e funding, redditività e solvibilità, tecnico-assicurativi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Analisi ALM e Monitoraggi periodici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3:01:33Z</dcterms:created>
  <dc:creator>CORDIER</dc:creator>
  <dc:description/>
  <dc:language>en-US</dc:language>
  <cp:lastModifiedBy>Fabio Farabullini</cp:lastModifiedBy>
  <dcterms:modified xsi:type="dcterms:W3CDTF">2016-04-15T13:37:07Z</dcterms:modified>
  <cp:revision>551</cp:revision>
  <dc:subject/>
  <dc:title>Presentazione di PowerPoint</dc:title>
</cp:coreProperties>
</file>